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96C-88D1-474E-8642-9ADEF20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FEC-CE62-4E48-A687-8EB7D1A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4F16C-61D0-4589-951D-11FC24B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7DE92-8D86-4CF5-9944-83A9A8F5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9BCEA-8571-4727-9CC8-254C09E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4B0B1-559B-4224-BE15-415A832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9D6D7-D5E3-4962-80BC-9B1B109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CF2CE-7E23-459D-9B0E-569BE9C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0B8AE-7908-41B9-AE82-37D1863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4BD49-C1DD-441A-B8B8-0DA33241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0DEB-46AA-4B7D-8282-86CB9214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4901-CD13-4F38-864A-8FEAA07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A0D-16F7-4F7F-A377-819F648A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4C67E-997E-4685-A221-72941A7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CE4B0-02C1-4504-A040-82048B3B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B0A3-B0B6-4A61-A181-98EC53E7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97DC3-E1A0-4B3F-B29C-73D39B5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323AB-43CA-44DC-8C05-B19BECE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E57AA-28BD-4BDA-8E5C-A569AA7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4A262-A840-4B47-A34D-5F87DCD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5C948-29D7-404D-ADEA-2B9C6A05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C0AF1-F337-47C0-AA2D-BA7037DD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9279D-191C-4637-9DF0-4736CFD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A87-52AF-46A1-8C30-E2799C7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2124-01BA-4CAC-B91E-F9DA7CBF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FFDA7-CDBC-45CF-B397-D072FB74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9C90-679E-4605-B3C5-4E677649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1E45-36D6-4D8C-95EC-C7E0C76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1F22-824B-4EF5-AEE0-BA06EBD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D053-E681-4F36-9DC1-056183C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3CE57-B325-4279-A73E-E01777B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E568D-9AAD-4880-B235-62F8FB4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EDD12-93B3-4DAA-907F-2F658BD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965A0-2E92-4A8F-AEE4-BA653AA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1D6E-A120-40BE-8A4A-BBF0D556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AD843-4117-486B-B4EE-CD79A391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9512C-AE8A-47E8-9A40-6BA3FA30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65D1F-C0F5-48F9-8345-63952E2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EB3A4-83A4-4403-9B1E-DF39C7B3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8051E-947F-4795-BC87-8646E2D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7EE3B-5D1E-429A-9F10-C9E97C4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C56EF-8D96-4426-991B-34D4B49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77525-D7BE-40B1-8EA9-B39F0F6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C2EF2-345F-49A5-89BA-C0DA53C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2B8D6-B817-4259-8D1D-9269B80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66E-F304-4FCC-9B50-2A65802D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572D0-B2E3-49DB-8CAB-68F3938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21381-423B-4A37-9F1B-AECF6CB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A0EF4-9D20-4200-9639-BD8625D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97D29-CD9D-4AC1-B610-E5E5752A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A4B9E-D89A-4425-A4E0-5D0D2873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DAE07-FD21-4679-A2BA-2A690880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6829-CAB5-40E0-A993-9B263EB2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FB6DB-4C1A-41DF-9A40-718A13BF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A8F7C-09E0-4DCA-8105-928998D1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01616-EAC6-499A-99C6-205B31F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87B7-16D0-4EAA-A433-84494F9D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12CC4-235F-4CF1-B3A3-4C8B9533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EAB6F-01A5-4351-8CB8-038DA52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E2A4D-6508-43E1-B4F8-CD63B77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F7ECA-3D3D-4F37-B76E-F77A446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1987A-7BE4-4AED-82D4-A4C84210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58CF6-4DF5-4703-8633-8290A581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FE04B-3DF3-4763-A485-719902C1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C59FB-3902-49F1-8CD4-74A162C3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64385-2D08-4D55-A88C-6A45E50C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90273-2162-419C-BA20-DA51991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37C-06D2-48AB-95DF-2A6D1F8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7351C-4223-417E-B151-B59A470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3EC95-D43A-4BFE-B7D6-8958C5B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4BF46-9D0F-49EC-A430-F42FDF2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63839-BC5C-4D81-97B7-B16F6B5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672FA-861D-4211-9B89-FC7BE41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51385-415D-4B50-9BBA-B08D3C4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B847C-9ADD-449C-B7E0-69E4A7A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75E24-CB06-4393-974E-95EA86C6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AE667-5909-49BC-971E-705210C3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75E19-C22F-4162-8B42-67700A36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F906-74FC-4DC3-BF83-9AA6A34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5C79-CFD7-4E06-9B7D-AB6ED66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4C0D9-7D9B-4FEE-81A4-464A3D8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35BA9-B826-448E-9C31-14603DF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27293-0AB8-45AE-B969-00C2461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02F0E-2B8C-4B3D-B7EA-30200829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F89A5-5F91-4C98-985C-F19839F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8EAC7-01AE-4BF2-A597-99C4A7E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E3272-0358-4E5E-97BE-6683B48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FA2D1-9A53-4F52-95EE-78509C0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29C20-AAEB-4B41-A2A9-A96B7DBE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2965-4FE5-47E7-B64F-ADC8F5B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CC3B3-9897-4B4F-A046-F1F2AAF6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7B0E0-2E88-45B3-AA22-7B6EA3A9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64849-2650-4BE3-9620-DBCF440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80666-F0E6-4641-817F-49D3EF01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AF3DE-46BB-4ECF-849F-CA4B90AD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81EDA-4DF2-43E8-99F6-EC4EE53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62D13-C06E-401B-BC80-5EECFFE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2437E-0326-49EE-B5AB-9C8E2B8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C4F36-7AC9-40E3-82A1-04A2423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22DF1-DFE2-4266-8964-C1326B3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73FA-0C1C-4161-A5D6-80045E4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37E13-60C1-46E0-8074-7540BF7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E3336-9829-4DBF-BE93-A449059C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EACEA-7B5A-492F-8EB8-57119806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0A654-F60E-4B3E-B6E9-3AB6BCA5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24106-D707-4F76-A467-572907B8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C47DF-1790-42C9-AA76-D583D07D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C4B02-6A26-4FCD-9C76-B2C3524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DFD84-9AEC-4300-9AF8-B6EB7A7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455DA-A033-4A06-AF1A-DCD03D66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B1988-9DCA-42AE-A7A3-1F1F11A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AAD-2C35-47DA-B7E7-C799AAA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F55B-70C6-4287-AE17-43B0BA8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30785-7BF2-4555-8AD1-9EDAE26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47082-0185-460F-BC75-37253EC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0282F-3B06-429E-9BD5-EACDD784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70062-CB57-4464-9EC4-77EE6FC8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2A754-06A9-4A33-97A6-7E8F7484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E3C3F-1C53-4446-A392-99A58DC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259B1-8A2B-41C9-9F9C-C7A8364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CA391-828A-476A-AF45-537E6E0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BC793-C797-41E1-9EED-EECF89EF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2E712-3039-4757-BDF6-2C48317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BE1E-C0BC-4467-A377-8F1212AE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7310E-B9D8-402D-8300-2B8102D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DB5B8-6733-4CD9-80A4-0C3C6CA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441C3-2484-41AA-82DE-04EB842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5FC53-F7C9-45C4-83DE-9F752CE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F1DAC-220B-4A7E-A412-372E6F7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0326D-404B-420A-8377-D2DD4DAD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08016-614C-4BEE-854B-12CC097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FE6DB-A14A-4E62-81EA-DD4DE39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A142E-B381-4021-8D12-5215E186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35F0C-B4BA-4DD9-A3B5-917D8325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8535-7645-4B86-B3C8-E9263BF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E4989-BDB9-4D01-A4EE-2F30D21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FC9C7-0623-408A-92FE-E629B7E9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DCC35-BE37-499F-8F2F-19F3762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168EA-DC4F-412F-A411-089F70D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53597-4564-4567-A295-BEB85CA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30168-5339-483D-B93F-E56A783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E3831-A2A3-451D-B9A9-1FEE4F87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7B915-4B94-4561-AB13-2CC9F15B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87099-AB30-416F-9E17-D2D8AA90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E768B-C0BB-4BFD-8B17-4051EFEC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7D7-4903-4918-A96E-6A8A4888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F58B9-308A-41A3-8E0C-1AAF9A1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A59A0-492B-4E4B-B14F-25D2C29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70E1A-81BD-4272-B3AD-43BA8D5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77CCE-0B52-45A9-B5DB-EC92048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EF4BE-EF5A-4199-863D-1E633F50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BA5A3-2437-41B5-BBEF-B3AC829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98698-CAE2-4F1B-85C6-ECD1178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1AAC6-6B39-44A7-AD36-83BF3F3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BC792-3218-4AD5-8BE6-18C6C61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E720F-9C8C-407B-86FE-04EE9BFE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9DB7-04B2-4692-AE16-2B964C0F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C9BF8-74A2-4461-A2FC-A3043CA0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39DDD-2BEE-45C2-A349-BD991F86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07341-BBDD-4A8E-8F87-E76F2CA8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BF5EE-D2BE-4CBA-B04E-5766D261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367BC-1290-4C21-9E4E-9A8F373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5A117-37AE-4C88-8AF4-D7FD9785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5AFD4-8F7B-41ED-B304-8D4E6047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66FF1-9258-4CB6-840D-04468B9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CEE53-E444-44D0-8E48-0991648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46F6B-91C9-4A31-B4DB-66C3E686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1B7B-F431-41B1-98A0-39ED217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587A8-1F3B-448B-80D2-73BB4C6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BEFE6-7526-4B72-AD2D-337F9D71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F4B9C-0C7B-481F-AAC4-F6E297DA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F82B6-628F-4AB6-B541-3EDB987E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B074A-AF7C-41F0-9F08-1DC16BF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30B70-54FF-4C38-BBF0-022216FF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9C2A7-03C5-4592-82D6-A91E44D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7D4BB2-3F4A-438D-BDC7-37BBBCC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BF30C-35B9-4687-BE2B-3030814D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4E856-5F3A-45F9-A3E5-2E97439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B353-5E47-4986-986C-402A65C8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1CFEDD-4EE4-4295-B66C-A3AC7D9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B5ABD-2A69-44DF-9B42-14441540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4299E-EBBD-4A0E-A820-0899F4F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8EB959-B3FF-4994-9D86-1DA46031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677269-9ABE-47CD-90D1-E7D828A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E7D55-9272-4191-AFF8-47609932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B107B8-F78B-44EC-8149-CEFF4E58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AA06B2-0E91-45BF-A895-FDBF4CA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E6809-34A1-4B4D-AC3F-59353C19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C6DFAE-A14E-4CE0-87DC-633F77AA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0AB2-5DE8-41B9-BFC0-45ED3AD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6E7B69-712B-4949-BD7A-B70B3C1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534DAE-8A5F-46DD-9985-59DEF36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04FAC5-4AA4-4D75-8EF8-378E0BE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F8C8E-CB67-4AAD-A981-7ADE8F4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01124-DF03-4B32-817D-FCDF560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535AA-18CA-45A7-8D32-5A608C77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1152C1-6F48-4CB3-9AC2-3599DA12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DF819-AE58-477B-8FB5-3C624FDD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DA04EC-4779-4EA5-979C-8CE2D17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AE1BBD-4B66-4F01-87F7-A6EB283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4AA0-3013-45D3-81F0-2017AC98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5DA35-B50B-4ED4-A681-3EE372F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E2592B-C3EB-4B6A-8AD5-9E55309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77CCB4-47C8-400E-A958-0301639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A209EC-16B0-409A-B9E7-EDFE836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9316EE-175B-486E-9005-EF6DA74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35CEBC-8C3B-4A64-B336-3ED0006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0B5D79-3867-4DD3-976E-291AC78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FFDDAA-D131-4733-8D70-B78C2384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8CA114-4354-4DEC-AF7F-7A483406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4A94FD-4807-43C4-9680-DBF98A5A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AD53-60DA-4C9A-B38A-2B2FA4B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35B4F2-CEB5-4441-BA64-FEC1DD99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8926CD-654B-44F8-AFB0-9F0C925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580BA-76B0-4E78-80C9-9E5080ED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0A26D2-5B9B-4BCC-9DB5-7EB85D4C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5F817E-3AAB-44E0-AC3B-C34D3AA6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C70A33-FC1F-47FE-8E2E-3E45651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7C5E42-62EE-46BE-92B4-61ADBB7D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EFD3DF-E6F2-4084-A7FE-87E4928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3ADE8F-B929-4591-A5EE-61D900B9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DB9478-A560-4FBE-A189-E0A459BB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7CE-1007-4529-AC5D-90EF4A5A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C358-73E4-4A8F-A014-9C323A3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6296BE-B0FB-4310-A5EC-F8F81344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93E4B9-940C-453B-ADA4-81E78182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8B9395-5E63-46B4-A691-BA0F17C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B66022-769D-4D60-8C64-DA6C4053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AEE637-9ECA-4D76-9E85-8039CFA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8A05BA-BB49-4826-BAF6-EC30E290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8C9149-C273-4287-AE4A-35E4A80A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63BE0C-C3AD-4C54-8638-D5DFD94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234D30-9BD7-41C4-824B-9CEBFFA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5D6EB-EE2E-4345-9DBB-481F776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165B-C201-45D7-A3F9-5357B29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730D11-F2FF-44C7-BF55-2BC4126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656CC8-FFE0-4B02-83FB-1C50EAFB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9916C7-7699-4C4B-BC3E-E4562099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1C713-93F7-464D-8012-D44D0C33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D4B248-8F49-4C08-A8E6-E0E2724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E76423-D91B-46B9-8F05-0C27DE9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375E56-FABA-4736-A20A-4C796BB2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B3E472-922E-481A-B692-EBEAD29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AE529-1613-4DD7-89E0-695BB9E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C4F7A5-644E-4652-A54A-E71C9F1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63EA-2DFA-4678-A086-2CFD641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06B7BD-1F45-4C32-8B43-B8CCB15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4221A3-44E1-4055-B0F9-4261D96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C3402-101B-4DA2-9D52-2068B30C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43BBB-904F-42A5-9690-924426B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5FFC3B-2588-4732-A868-072ECC0B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BFDD6-6DDC-4311-ABC8-73432413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EF5F2C-C08E-4A64-A6DE-4BA9CB51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0F3981-298B-4B61-A705-A3D873D2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DBC14A-53D2-484C-9A59-E595153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C3D9AC-969C-492A-A64F-0F18120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DCE2-6BB4-4F81-B452-22DAE5B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7B23FA-10C5-4F08-B54E-F5B9A7D2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C71DB7-78AE-4DEA-B5D3-88CB5FD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FBC299-02F3-4603-AAC5-C90E57D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53306C-857C-4BA7-BBC9-BD55BD0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B54B0-DCB2-482E-A11F-172B28E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EF6D22-17A1-4BE6-BDE4-DA5F804C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3D330-31A9-417C-8087-E838BE7A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39023C-4450-438D-92F8-15CB9CB9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765DD9-FB50-44BC-990C-9079F63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C87FF0-8B19-4801-89D0-2D6B9105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6F95-5430-486E-B7A0-48FB6F1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420A03-CB79-42F9-B794-1CE632FE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C174BE-8320-46C5-8207-E5CBEA0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E18D94-6034-475E-AEB6-34C9E74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DA5AC-276B-470E-A0BA-0465BD6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2E3E5B-93CA-4D26-8301-C1C3ADA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0ACC05-0D97-4FDA-9EBD-FA10A91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E42316-88C6-4EBE-B6C1-D71FF7F7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4FE0D-76C7-4361-BA99-4EDE42E2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A5C549-A8DD-4A21-89B1-DBD7B3FB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706F14-A512-4D60-8344-10D6015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CF6D-62AD-43DC-BA7D-A02B105E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198231-1955-4A5F-8963-BE7F1CBA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F7351B-7713-4C4E-985A-32720DF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9A79B4-B014-4F71-A132-F46F9B1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1BE18D-6D80-4BDE-AF4C-E853A7C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E6607F-D7AA-4342-BA46-02B97496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0AF292-39A2-44AF-8CF1-2E6DD8F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BE6ECB-4E1D-49B1-9626-314FFF5F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E1711D-DB26-49B2-851F-7589874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5BBA08-C5A6-4DE3-95E3-A46E7E53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1D6D02-CB43-4943-BA98-2358DB83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796D-C701-45AF-B199-9C3661DE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C9B8AD-903B-4CB8-A2DF-0FF683FF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FE797B-212A-4745-AD1C-1EFF4C6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E70050-2264-4E36-B550-6E26BB27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BE146B-5EBB-4631-9FE8-2601E92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058A99-D1AC-47AD-9D71-C449471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220FC0-05A6-468F-A285-AA7618A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009123-2C09-4957-A05F-A12924D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492E81-C724-4A1A-8968-948BCCD4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535A4B-C981-409A-A9B5-B8738CA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D36852-7DD1-4F80-B820-D5C3B2E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331F-8E8C-4D7B-8506-3A7850C8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47F82D-B0ED-45AD-92A1-D017B4F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C653DA-5A21-462B-9C31-5CC6CDBE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64DD06-B8F1-474F-A0BC-02B1F8B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7BC7-EE97-4ABB-B931-5027E6F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E797-BFB3-4DAF-8430-12390BE9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867-2086-4D99-87DA-B7CEFB68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748E-3676-41D7-84B9-DD5142DA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2F42-8036-4BE9-9360-AE5CA76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3E62-9445-4ECD-9AF2-1E29431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BB6E-4CE3-4C69-916B-6C5817F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71AE-F245-4EEE-AE20-F143487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75F1-E69E-4CC7-B56E-08F34AC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58D3-6E05-492F-B8A6-08DDEBE1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A606-5B55-4750-A62E-61419FA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DDAE-6026-4E63-8140-24AFB658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F164-7178-4FA2-BB6A-BB59B3E9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884-29DD-4ABA-BE79-249BDC8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D6F4-1528-4545-923D-0CCCF733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31C70-D25A-4780-A307-D8BCEFF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6287-631F-473A-806B-C277395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D12D-6257-4CB3-8508-503F7364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E371-735A-4750-8400-3695DF0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BF28-AA11-45FE-9DE2-CCD988D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2EA7-EDBD-44B5-8E65-95FF6C3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6477-36A5-4129-9B28-6AC7EE4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A73A-8258-4969-BCF1-D455B1A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2A97-535B-4F59-8329-10C71086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174-4972-463C-BA5F-95FB9A97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132AC-5000-4242-9E91-CB2B52D7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A93E3-3DF1-491B-948C-39A6E20C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24F6-3EDC-4F9C-9024-435AEF0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D3E2-BC46-4A66-8A63-A8908C9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2DF5F-AACE-4B41-B3A1-601958F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9743-5912-484F-BEC0-50DAB603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1D02-9B68-4DD1-982B-2FE94ED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BE63-A516-4392-A4CA-D6AAB2F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C6F5-4D6F-4649-BE10-1B49D56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BA94-F187-43B3-B4F0-9544EDC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2BD-3F76-4AAD-8915-8633148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CE0C-83ED-4649-AF32-88CFD88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DFF7-19A0-4FA7-A920-8BBAFE7E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8629-05B7-4E42-9E22-CB145ABD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2AD3-6116-4C02-9760-78511344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E862-CCCD-49A4-A67B-94F420D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9681-A315-4F27-9782-990390D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C57E-F02E-4A76-8616-F23A597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FDDB-F5DA-4D59-A31C-EC0C895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FBD5-3498-428E-9DE8-89C2D1D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6FA5-352E-48B8-B1C3-357A20C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C6D-3FFE-4906-8D79-288B4B3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D82B5-BA33-4D0F-BB32-5D8723C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BFF19-450D-4748-B29A-9FF49ED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DC5B-FEF8-4CC6-8EFF-0BB32BD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FE413-6020-422A-AFCA-8F79B6FF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2692-9CA9-4632-8757-0AA48E6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4433-A646-4449-9690-1F835D31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C4BD-8724-4CD2-8200-BCBD6D0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E2077-18BB-4C4C-8035-FFDA906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BDDB-F9CE-448C-A6C0-9907AAC6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65F7-0974-41A5-AAC6-7473D5A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99E-313B-45D3-B645-B97DC06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49F7-E584-484D-9D58-2AD1698B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21BA7-F187-4B1F-ABD2-46C2E7B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3F3E-61C4-41DA-A32A-27536B9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2D62A-ECE4-416D-B13A-3147BCD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E0C4-2C99-47AD-AF2B-77755476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E3FBF-85DA-4221-93B4-774B9FB1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9B943-76A6-4C70-A05C-0413D9B5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2C7A6-96B3-458C-805B-01C41FFE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8912F-B9ED-40EC-A641-6970DFC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F36B2-A9F8-4792-9103-5CAC865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CA8-065B-41E7-9FDA-3647BD0F6C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15DB-E21A-4795-B71C-758396278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2FD4-A147-48BB-93BB-3C5A2235FD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39D-181A-46FF-A640-297E0C89F9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FACA-CB51-42D8-82FA-027F681BC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E891-0F95-465B-B31B-C6ABE9324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B84-1014-4FBD-8999-921FD5BB7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251-6E89-4256-88B9-87CD35DF47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C397-E0E1-4F1C-B7C5-2BFC4E3D6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3B2E-7009-4E4D-8900-7A97931A5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93B1-0FBB-446A-A98F-96CBD7E99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FD8-103B-42FA-9DFE-F2EC0F8F7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82A-1973-4857-9E7A-7BE7E198D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F40-BA4A-4D35-A0EE-B5893D559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E70-2421-4D1A-B6F4-D927B4779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0C1-C474-495E-9DD9-9266857FF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F6A4-403F-43A7-BA87-274F53EC8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5433-0A41-4726-9D55-2C066F835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E418-1715-43C7-AE22-146A3C2DA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589-9DD4-4D35-A761-968649C55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ED00-7392-4DB4-AB01-B2E663963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190-8ECB-40A2-8F8F-10FF5A21C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6D4-789E-430B-9FCC-567E74E8E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0898-7BE7-45E6-B3BA-33BB01D03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2C1-BDFE-4BA3-A5F8-D8FCCFA0E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42EB-E4D3-47F9-8B8E-C58666B08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3E15-4580-44C4-B738-51D32FB2A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C985-DE62-47EF-8737-88B3471DA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AA4-A015-4807-99C5-27ED1051F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C2C-86EC-46B6-8B99-63894E976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286-8EBE-4B82-A838-634059B5A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06A3-8FF9-49A0-AD59-8D0518EC3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F68-41E8-41E8-A155-ACE8DE4F3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47EF-1377-4A32-AF51-D11B2792F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A81-CC2B-40B6-8061-18B29CDBD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AE7-E0EC-41A9-BABB-07B3DE2E3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189-B00E-4A84-BD7A-594DC860B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EC1D-259B-4F8D-9296-856858FC4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5CAA-601A-4566-8EE2-105E97F0C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54AE-15B0-4870-AD3C-C3F022CCF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011-F219-473E-A5AF-FDB5A6426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DE1-B170-4506-881D-87A8773B6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4990-FF3E-4DCC-A921-B2176B7E1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1E5-358C-4250-BC9C-F02708E20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61C-E2B8-4A0A-9412-D20C0545D3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6AE-A09C-4555-8F45-ED53BD21B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46F-7E9C-4ACD-AFB5-09D253F87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E04-3623-47F6-AA4A-D5E8F278B7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3D9-75A1-48A6-BD4A-0AE2BE0A5D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DBB-4748-46F0-A07B-6B2C14B249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0009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6737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01000" cy="513396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6738"/>
          <p:cNvSpPr/>
          <p:nvPr/>
        </p:nvSpPr>
        <p:spPr>
          <a:xfrm>
            <a:off x="8066160" y="4565520"/>
            <a:ext cx="51588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6739"/>
          <p:cNvSpPr/>
          <p:nvPr/>
        </p:nvSpPr>
        <p:spPr>
          <a:xfrm>
            <a:off x="1116000" y="5084640"/>
            <a:ext cx="290664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5713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10600" cy="35244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5714"/>
          <p:cNvSpPr/>
          <p:nvPr/>
        </p:nvSpPr>
        <p:spPr>
          <a:xfrm>
            <a:off x="1922400" y="2679840"/>
            <a:ext cx="37069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5715"/>
          <p:cNvSpPr/>
          <p:nvPr/>
        </p:nvSpPr>
        <p:spPr>
          <a:xfrm>
            <a:off x="2843280" y="3716280"/>
            <a:ext cx="54306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5716"/>
          <p:cNvSpPr/>
          <p:nvPr/>
        </p:nvSpPr>
        <p:spPr>
          <a:xfrm>
            <a:off x="1332000" y="4226040"/>
            <a:ext cx="68976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5717"/>
          <p:cNvSpPr/>
          <p:nvPr/>
        </p:nvSpPr>
        <p:spPr>
          <a:xfrm>
            <a:off x="1343160" y="4714920"/>
            <a:ext cx="2358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4689" descr=""/>
          <p:cNvPicPr/>
          <p:nvPr/>
        </p:nvPicPr>
        <p:blipFill>
          <a:blip r:embed="rId1"/>
          <a:stretch/>
        </p:blipFill>
        <p:spPr>
          <a:xfrm>
            <a:off x="561960" y="1128600"/>
            <a:ext cx="80200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13666" descr=""/>
          <p:cNvPicPr/>
          <p:nvPr/>
        </p:nvPicPr>
        <p:blipFill>
          <a:blip r:embed="rId1"/>
          <a:stretch/>
        </p:blipFill>
        <p:spPr>
          <a:xfrm>
            <a:off x="876240" y="1400040"/>
            <a:ext cx="7391520" cy="405792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13667"/>
          <p:cNvSpPr/>
          <p:nvPr/>
        </p:nvSpPr>
        <p:spPr>
          <a:xfrm>
            <a:off x="1646280" y="2432160"/>
            <a:ext cx="65739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3668"/>
          <p:cNvSpPr/>
          <p:nvPr/>
        </p:nvSpPr>
        <p:spPr>
          <a:xfrm>
            <a:off x="1363680" y="2943360"/>
            <a:ext cx="63262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3669"/>
          <p:cNvSpPr/>
          <p:nvPr/>
        </p:nvSpPr>
        <p:spPr>
          <a:xfrm>
            <a:off x="1495440" y="4479840"/>
            <a:ext cx="68198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3670"/>
          <p:cNvSpPr/>
          <p:nvPr/>
        </p:nvSpPr>
        <p:spPr>
          <a:xfrm>
            <a:off x="1297080" y="4994280"/>
            <a:ext cx="11239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12641" descr=""/>
          <p:cNvPicPr/>
          <p:nvPr/>
        </p:nvPicPr>
        <p:blipFill>
          <a:blip r:embed="rId1"/>
          <a:stretch/>
        </p:blipFill>
        <p:spPr>
          <a:xfrm>
            <a:off x="871560" y="2147760"/>
            <a:ext cx="7400880" cy="25624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2642"/>
          <p:cNvSpPr/>
          <p:nvPr/>
        </p:nvSpPr>
        <p:spPr>
          <a:xfrm>
            <a:off x="3836880" y="2717640"/>
            <a:ext cx="87804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2643"/>
          <p:cNvSpPr/>
          <p:nvPr/>
        </p:nvSpPr>
        <p:spPr>
          <a:xfrm>
            <a:off x="5651640" y="2708280"/>
            <a:ext cx="26780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2644"/>
          <p:cNvSpPr/>
          <p:nvPr/>
        </p:nvSpPr>
        <p:spPr>
          <a:xfrm>
            <a:off x="1403280" y="3213000"/>
            <a:ext cx="267804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2645"/>
          <p:cNvSpPr/>
          <p:nvPr/>
        </p:nvSpPr>
        <p:spPr>
          <a:xfrm>
            <a:off x="5076720" y="3726000"/>
            <a:ext cx="10778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11617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933720" cy="100044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111618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743360" cy="409680"/>
          </a:xfrm>
          <a:prstGeom prst="rect">
            <a:avLst/>
          </a:prstGeom>
          <a:ln w="0">
            <a:noFill/>
          </a:ln>
        </p:spPr>
      </p:pic>
      <p:pic>
        <p:nvPicPr>
          <p:cNvPr id="1506" name="图片 111620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6724800" cy="685800"/>
          </a:xfrm>
          <a:prstGeom prst="rect">
            <a:avLst/>
          </a:prstGeom>
          <a:ln w="0">
            <a:noFill/>
          </a:ln>
        </p:spPr>
      </p:pic>
      <p:pic>
        <p:nvPicPr>
          <p:cNvPr id="1507" name="图片 111621" descr=""/>
          <p:cNvPicPr/>
          <p:nvPr/>
        </p:nvPicPr>
        <p:blipFill>
          <a:blip r:embed="rId4"/>
          <a:stretch/>
        </p:blipFill>
        <p:spPr>
          <a:xfrm>
            <a:off x="544680" y="3218040"/>
            <a:ext cx="6771960" cy="7045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11622" descr=""/>
          <p:cNvPicPr/>
          <p:nvPr/>
        </p:nvPicPr>
        <p:blipFill>
          <a:blip r:embed="rId5"/>
          <a:stretch/>
        </p:blipFill>
        <p:spPr>
          <a:xfrm>
            <a:off x="549360" y="4130640"/>
            <a:ext cx="1647720" cy="685800"/>
          </a:xfrm>
          <a:prstGeom prst="rect">
            <a:avLst/>
          </a:prstGeom>
          <a:ln w="0">
            <a:noFill/>
          </a:ln>
        </p:spPr>
      </p:pic>
      <p:pic>
        <p:nvPicPr>
          <p:cNvPr id="1509" name="图片 111623" descr=""/>
          <p:cNvPicPr/>
          <p:nvPr/>
        </p:nvPicPr>
        <p:blipFill>
          <a:blip r:embed="rId6"/>
          <a:stretch/>
        </p:blipFill>
        <p:spPr>
          <a:xfrm>
            <a:off x="2287440" y="4130640"/>
            <a:ext cx="5019840" cy="67644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11624" descr=""/>
          <p:cNvPicPr/>
          <p:nvPr/>
        </p:nvPicPr>
        <p:blipFill>
          <a:blip r:embed="rId7"/>
          <a:stretch/>
        </p:blipFill>
        <p:spPr>
          <a:xfrm>
            <a:off x="574560" y="5070600"/>
            <a:ext cx="5077080" cy="68580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11625"/>
          <p:cNvSpPr/>
          <p:nvPr/>
        </p:nvSpPr>
        <p:spPr>
          <a:xfrm>
            <a:off x="2268360" y="4724280"/>
            <a:ext cx="14292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图片 111627" descr=""/>
          <p:cNvPicPr/>
          <p:nvPr/>
        </p:nvPicPr>
        <p:blipFill>
          <a:blip r:embed="rId8"/>
          <a:stretch/>
        </p:blipFill>
        <p:spPr>
          <a:xfrm>
            <a:off x="988920" y="237348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3" name="图片 111628" descr=""/>
          <p:cNvPicPr/>
          <p:nvPr/>
        </p:nvPicPr>
        <p:blipFill>
          <a:blip r:embed="rId9"/>
          <a:stretch/>
        </p:blipFill>
        <p:spPr>
          <a:xfrm>
            <a:off x="2705040" y="237816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4" name="图片 111629" descr=""/>
          <p:cNvPicPr/>
          <p:nvPr/>
        </p:nvPicPr>
        <p:blipFill>
          <a:blip r:embed="rId10"/>
          <a:stretch/>
        </p:blipFill>
        <p:spPr>
          <a:xfrm>
            <a:off x="4378320" y="237348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5" name="图片 111630" descr=""/>
          <p:cNvPicPr/>
          <p:nvPr/>
        </p:nvPicPr>
        <p:blipFill>
          <a:blip r:embed="rId11"/>
          <a:stretch/>
        </p:blipFill>
        <p:spPr>
          <a:xfrm>
            <a:off x="6094440" y="237816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6" name="图片 111631" descr=""/>
          <p:cNvPicPr/>
          <p:nvPr/>
        </p:nvPicPr>
        <p:blipFill>
          <a:blip r:embed="rId12"/>
          <a:stretch/>
        </p:blipFill>
        <p:spPr>
          <a:xfrm>
            <a:off x="1014480" y="324180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7" name="图片 111632" descr=""/>
          <p:cNvPicPr/>
          <p:nvPr/>
        </p:nvPicPr>
        <p:blipFill>
          <a:blip r:embed="rId13"/>
          <a:stretch/>
        </p:blipFill>
        <p:spPr>
          <a:xfrm>
            <a:off x="2730600" y="324648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18" name="图片 111633" descr=""/>
          <p:cNvPicPr/>
          <p:nvPr/>
        </p:nvPicPr>
        <p:blipFill>
          <a:blip r:embed="rId14"/>
          <a:stretch/>
        </p:blipFill>
        <p:spPr>
          <a:xfrm>
            <a:off x="4403880" y="3241800"/>
            <a:ext cx="1076040" cy="64764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111634" descr=""/>
          <p:cNvPicPr/>
          <p:nvPr/>
        </p:nvPicPr>
        <p:blipFill>
          <a:blip r:embed="rId15"/>
          <a:stretch/>
        </p:blipFill>
        <p:spPr>
          <a:xfrm>
            <a:off x="6119640" y="324648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111635" descr=""/>
          <p:cNvPicPr/>
          <p:nvPr/>
        </p:nvPicPr>
        <p:blipFill>
          <a:blip r:embed="rId16"/>
          <a:stretch/>
        </p:blipFill>
        <p:spPr>
          <a:xfrm>
            <a:off x="1014480" y="4151160"/>
            <a:ext cx="1076400" cy="64800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11636" descr=""/>
          <p:cNvPicPr/>
          <p:nvPr/>
        </p:nvPicPr>
        <p:blipFill>
          <a:blip r:embed="rId17"/>
          <a:stretch/>
        </p:blipFill>
        <p:spPr>
          <a:xfrm>
            <a:off x="2730600" y="415620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11637" descr=""/>
          <p:cNvPicPr/>
          <p:nvPr/>
        </p:nvPicPr>
        <p:blipFill>
          <a:blip r:embed="rId18"/>
          <a:stretch/>
        </p:blipFill>
        <p:spPr>
          <a:xfrm>
            <a:off x="4403880" y="4160880"/>
            <a:ext cx="1076040" cy="647640"/>
          </a:xfrm>
          <a:prstGeom prst="rect">
            <a:avLst/>
          </a:prstGeom>
          <a:ln w="0">
            <a:noFill/>
          </a:ln>
        </p:spPr>
      </p:pic>
      <p:pic>
        <p:nvPicPr>
          <p:cNvPr id="1523" name="图片 111638" descr=""/>
          <p:cNvPicPr/>
          <p:nvPr/>
        </p:nvPicPr>
        <p:blipFill>
          <a:blip r:embed="rId19"/>
          <a:stretch/>
        </p:blipFill>
        <p:spPr>
          <a:xfrm>
            <a:off x="6119640" y="415620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24" name="图片 111639" descr=""/>
          <p:cNvPicPr/>
          <p:nvPr/>
        </p:nvPicPr>
        <p:blipFill>
          <a:blip r:embed="rId20"/>
          <a:stretch/>
        </p:blipFill>
        <p:spPr>
          <a:xfrm>
            <a:off x="1015920" y="507528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111640" descr=""/>
          <p:cNvPicPr/>
          <p:nvPr/>
        </p:nvPicPr>
        <p:blipFill>
          <a:blip r:embed="rId21"/>
          <a:stretch/>
        </p:blipFill>
        <p:spPr>
          <a:xfrm>
            <a:off x="2732040" y="5079960"/>
            <a:ext cx="10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26" name="图片 111641" descr=""/>
          <p:cNvPicPr/>
          <p:nvPr/>
        </p:nvPicPr>
        <p:blipFill>
          <a:blip r:embed="rId22"/>
          <a:stretch/>
        </p:blipFill>
        <p:spPr>
          <a:xfrm>
            <a:off x="4405320" y="5075280"/>
            <a:ext cx="1076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34360" cy="54482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1905120" y="1989000"/>
            <a:ext cx="108252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3708360" y="1989000"/>
            <a:ext cx="10828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2133720" y="2378160"/>
            <a:ext cx="596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3419640" y="2378160"/>
            <a:ext cx="596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1547640" y="2781360"/>
            <a:ext cx="920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2916360" y="3184560"/>
            <a:ext cx="1079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1979640" y="3500280"/>
            <a:ext cx="9208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1989000" y="3564000"/>
            <a:ext cx="920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3419640" y="4365720"/>
            <a:ext cx="12236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5148360" y="4365720"/>
            <a:ext cx="12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0"/>
          <p:cNvSpPr/>
          <p:nvPr/>
        </p:nvSpPr>
        <p:spPr>
          <a:xfrm>
            <a:off x="6659640" y="4365720"/>
            <a:ext cx="12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1"/>
          <p:cNvSpPr/>
          <p:nvPr/>
        </p:nvSpPr>
        <p:spPr>
          <a:xfrm>
            <a:off x="2700360" y="4768920"/>
            <a:ext cx="59752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2"/>
          <p:cNvSpPr/>
          <p:nvPr/>
        </p:nvSpPr>
        <p:spPr>
          <a:xfrm>
            <a:off x="1042920" y="5157720"/>
            <a:ext cx="14414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3"/>
          <p:cNvSpPr/>
          <p:nvPr/>
        </p:nvSpPr>
        <p:spPr>
          <a:xfrm>
            <a:off x="5581800" y="5535720"/>
            <a:ext cx="12236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4"/>
          <p:cNvSpPr/>
          <p:nvPr/>
        </p:nvSpPr>
        <p:spPr>
          <a:xfrm>
            <a:off x="7093080" y="5535720"/>
            <a:ext cx="132876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5"/>
          <p:cNvSpPr/>
          <p:nvPr/>
        </p:nvSpPr>
        <p:spPr>
          <a:xfrm>
            <a:off x="1260360" y="5950080"/>
            <a:ext cx="12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6"/>
          <p:cNvSpPr/>
          <p:nvPr/>
        </p:nvSpPr>
        <p:spPr>
          <a:xfrm>
            <a:off x="2771640" y="5950080"/>
            <a:ext cx="180036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4947"/>
          <p:cNvSpPr/>
          <p:nvPr/>
        </p:nvSpPr>
        <p:spPr>
          <a:xfrm>
            <a:off x="5148360" y="5950080"/>
            <a:ext cx="596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4948"/>
          <p:cNvSpPr/>
          <p:nvPr/>
        </p:nvSpPr>
        <p:spPr>
          <a:xfrm>
            <a:off x="5786280" y="9522000"/>
            <a:ext cx="180036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3905" descr=""/>
          <p:cNvPicPr/>
          <p:nvPr/>
        </p:nvPicPr>
        <p:blipFill>
          <a:blip r:embed="rId1"/>
          <a:stretch/>
        </p:blipFill>
        <p:spPr>
          <a:xfrm>
            <a:off x="390600" y="1419120"/>
            <a:ext cx="8362800" cy="40197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3906"/>
          <p:cNvSpPr/>
          <p:nvPr/>
        </p:nvSpPr>
        <p:spPr>
          <a:xfrm>
            <a:off x="8238960" y="3187800"/>
            <a:ext cx="330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3907"/>
          <p:cNvSpPr/>
          <p:nvPr/>
        </p:nvSpPr>
        <p:spPr>
          <a:xfrm>
            <a:off x="8172360" y="4365720"/>
            <a:ext cx="33012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2288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72520" cy="310536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22882" descr=""/>
          <p:cNvPicPr/>
          <p:nvPr/>
        </p:nvPicPr>
        <p:blipFill>
          <a:blip r:embed="rId2"/>
          <a:stretch/>
        </p:blipFill>
        <p:spPr>
          <a:xfrm>
            <a:off x="473040" y="3962520"/>
            <a:ext cx="5810400" cy="26676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122883" descr=""/>
          <p:cNvPicPr/>
          <p:nvPr/>
        </p:nvPicPr>
        <p:blipFill>
          <a:blip r:embed="rId3"/>
          <a:stretch/>
        </p:blipFill>
        <p:spPr>
          <a:xfrm>
            <a:off x="3430440" y="4257720"/>
            <a:ext cx="3724560" cy="134928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22884" descr=""/>
          <p:cNvPicPr/>
          <p:nvPr/>
        </p:nvPicPr>
        <p:blipFill>
          <a:blip r:embed="rId4"/>
          <a:stretch/>
        </p:blipFill>
        <p:spPr>
          <a:xfrm>
            <a:off x="711360" y="5648400"/>
            <a:ext cx="8029440" cy="110484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22885"/>
          <p:cNvSpPr/>
          <p:nvPr/>
        </p:nvSpPr>
        <p:spPr>
          <a:xfrm>
            <a:off x="8220240" y="1654200"/>
            <a:ext cx="30132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86"/>
          <p:cNvSpPr/>
          <p:nvPr/>
        </p:nvSpPr>
        <p:spPr>
          <a:xfrm>
            <a:off x="8244000" y="2852640"/>
            <a:ext cx="3016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87"/>
          <p:cNvSpPr/>
          <p:nvPr/>
        </p:nvSpPr>
        <p:spPr>
          <a:xfrm>
            <a:off x="3554280" y="5641920"/>
            <a:ext cx="11527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2888"/>
          <p:cNvSpPr/>
          <p:nvPr/>
        </p:nvSpPr>
        <p:spPr>
          <a:xfrm>
            <a:off x="3828960" y="6006960"/>
            <a:ext cx="49690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2889"/>
          <p:cNvSpPr/>
          <p:nvPr/>
        </p:nvSpPr>
        <p:spPr>
          <a:xfrm>
            <a:off x="1116000" y="6400800"/>
            <a:ext cx="792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2890"/>
          <p:cNvSpPr/>
          <p:nvPr/>
        </p:nvSpPr>
        <p:spPr>
          <a:xfrm>
            <a:off x="3348000" y="6410160"/>
            <a:ext cx="38736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21857" descr=""/>
          <p:cNvPicPr/>
          <p:nvPr/>
        </p:nvPicPr>
        <p:blipFill>
          <a:blip r:embed="rId1"/>
          <a:stretch/>
        </p:blipFill>
        <p:spPr>
          <a:xfrm>
            <a:off x="781200" y="1324080"/>
            <a:ext cx="7581600" cy="420984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21859"/>
          <p:cNvSpPr/>
          <p:nvPr/>
        </p:nvSpPr>
        <p:spPr>
          <a:xfrm>
            <a:off x="5435640" y="1317600"/>
            <a:ext cx="29163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60"/>
          <p:cNvSpPr/>
          <p:nvPr/>
        </p:nvSpPr>
        <p:spPr>
          <a:xfrm>
            <a:off x="1258920" y="1844640"/>
            <a:ext cx="324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1861"/>
          <p:cNvSpPr/>
          <p:nvPr/>
        </p:nvSpPr>
        <p:spPr>
          <a:xfrm>
            <a:off x="1619280" y="3429000"/>
            <a:ext cx="58975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21862"/>
          <p:cNvSpPr/>
          <p:nvPr/>
        </p:nvSpPr>
        <p:spPr>
          <a:xfrm>
            <a:off x="6227640" y="4508640"/>
            <a:ext cx="5162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21864"/>
          <p:cNvSpPr/>
          <p:nvPr/>
        </p:nvSpPr>
        <p:spPr>
          <a:xfrm>
            <a:off x="2268360" y="5032440"/>
            <a:ext cx="5162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20833" descr=""/>
          <p:cNvPicPr/>
          <p:nvPr/>
        </p:nvPicPr>
        <p:blipFill>
          <a:blip r:embed="rId1"/>
          <a:stretch/>
        </p:blipFill>
        <p:spPr>
          <a:xfrm>
            <a:off x="557280" y="1590840"/>
            <a:ext cx="8029440" cy="367632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20834"/>
          <p:cNvSpPr/>
          <p:nvPr/>
        </p:nvSpPr>
        <p:spPr>
          <a:xfrm>
            <a:off x="7799400" y="2765520"/>
            <a:ext cx="515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9809" descr=""/>
          <p:cNvPicPr/>
          <p:nvPr/>
        </p:nvPicPr>
        <p:blipFill>
          <a:blip r:embed="rId1"/>
          <a:stretch/>
        </p:blipFill>
        <p:spPr>
          <a:xfrm>
            <a:off x="571680" y="1352520"/>
            <a:ext cx="8001000" cy="415296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9810"/>
          <p:cNvSpPr/>
          <p:nvPr/>
        </p:nvSpPr>
        <p:spPr>
          <a:xfrm>
            <a:off x="7790040" y="3022560"/>
            <a:ext cx="515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8785" descr=""/>
          <p:cNvPicPr/>
          <p:nvPr/>
        </p:nvPicPr>
        <p:blipFill>
          <a:blip r:embed="rId1"/>
          <a:stretch/>
        </p:blipFill>
        <p:spPr>
          <a:xfrm>
            <a:off x="576360" y="1333440"/>
            <a:ext cx="7991280" cy="419112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8786"/>
          <p:cNvSpPr/>
          <p:nvPr/>
        </p:nvSpPr>
        <p:spPr>
          <a:xfrm>
            <a:off x="5408640" y="3470400"/>
            <a:ext cx="1249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8787"/>
          <p:cNvSpPr/>
          <p:nvPr/>
        </p:nvSpPr>
        <p:spPr>
          <a:xfrm>
            <a:off x="2627280" y="4546440"/>
            <a:ext cx="83988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8788"/>
          <p:cNvSpPr/>
          <p:nvPr/>
        </p:nvSpPr>
        <p:spPr>
          <a:xfrm>
            <a:off x="7236000" y="4552920"/>
            <a:ext cx="8395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8789"/>
          <p:cNvSpPr/>
          <p:nvPr/>
        </p:nvSpPr>
        <p:spPr>
          <a:xfrm>
            <a:off x="5435640" y="5084640"/>
            <a:ext cx="16113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7761" descr=""/>
          <p:cNvPicPr/>
          <p:nvPr/>
        </p:nvPicPr>
        <p:blipFill>
          <a:blip r:embed="rId1"/>
          <a:stretch/>
        </p:blipFill>
        <p:spPr>
          <a:xfrm>
            <a:off x="866880" y="1652760"/>
            <a:ext cx="7410240" cy="355248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7762"/>
          <p:cNvSpPr/>
          <p:nvPr/>
        </p:nvSpPr>
        <p:spPr>
          <a:xfrm>
            <a:off x="3436920" y="2193840"/>
            <a:ext cx="25448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7763"/>
          <p:cNvSpPr/>
          <p:nvPr/>
        </p:nvSpPr>
        <p:spPr>
          <a:xfrm>
            <a:off x="5060880" y="2708280"/>
            <a:ext cx="11923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7764"/>
          <p:cNvSpPr/>
          <p:nvPr/>
        </p:nvSpPr>
        <p:spPr>
          <a:xfrm>
            <a:off x="4140360" y="3801960"/>
            <a:ext cx="11919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2:1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